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A7F-C21F-4271-89C7-222A31E0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AD7-4DA3-44DB-9518-3ECFE1E9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3E5-135D-4A9C-9A7D-F7BD3041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E93-4006-47ED-8E7A-8D9D661C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330-B032-4933-92C4-E7785372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FA2E-C2F1-4C76-B607-B503173B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7E24-92A3-4AE4-91B3-2DA1912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C4BC-506B-4D25-B0BA-AA6C7C42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17F7-F1B9-4B08-BF41-4706FA9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8F1C-6012-4265-B179-F56AE4DE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65AF-0134-4084-BE37-95F4EFF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7A2-D272-46F3-AC4C-CF198D4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3B75-E5B5-47FF-845A-E0C0506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BB67-1A9D-4F53-BE30-680C367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751A-3C25-4A09-9712-9E1A4671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25CB-F7DC-4419-9288-B7D3077F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0689-8620-41A6-95B8-1DA50FC9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2579E-AF16-455C-AFC0-A183FBD9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6543E-BE64-41F3-B4BC-BD96235F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85BAC-DF39-4562-A16C-D5F86177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9D075-CD66-4E45-BB23-30A1C67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38577-ACA8-4DEB-934E-90881AF9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859-1811-4C3B-B1F1-1F2F1E1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43AB9-23CF-43D7-9306-C773936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00210-AFF5-4EAB-8D4F-009DD36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B7627-D82C-40E6-B9AF-5A15AD7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9733B-A539-4C41-9BD7-AD06A87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802CF-F2DC-4EC0-8900-0A23716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33DDA-4CBF-4E2A-87A1-64FAD5F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72C6D-7E0B-4A3A-911D-D69FE46C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8058-1F76-4F06-9247-3198ADF5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9F4E-B32A-46CB-91A5-FE5FE5D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08DE-A917-4BFB-A4A8-68E19682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7FA-4968-4AE4-BB33-8B1BAE1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D77E-9118-493F-800C-067D8056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00CA-4CAE-4F40-A4A5-87BDE8A2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286E-9F75-4070-90E2-21C8A754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B086-144E-47B9-9484-1D6DD2B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334C-6493-40A1-8A76-DED92B7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2E9C7-11B9-47E6-B0D9-54AC2C3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822ED-C416-427D-9472-C58CAFE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4AAA-9D2E-4D68-A4F7-7B432E61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6549-9B21-4691-A5F2-C083D477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356-C5A6-4CCE-9B1D-4677FBFC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058-16B5-45B6-B870-F133C5B6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1B9-96AB-4DDF-9137-B494B775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93D-21FC-4D0E-BB4C-13E5FA1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3E1-5821-4EE7-A2D1-88244BA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73E-35AF-43EF-9619-0BF1FA29BA43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6D51-955F-415D-AC40-ACC767C2885A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ECDB-C639-4E5E-891E-23FA6C437B03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773-586E-4212-98C2-5F76128030A3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Rozwiązywanie zadań tekstowych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z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astosowaniem równań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– figury geometryczne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324000" y="5084640"/>
            <a:ext cx="1584000" cy="14414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1476360" y="4076640"/>
            <a:ext cx="2232000" cy="1554120"/>
          </a:xfrm>
          <a:custGeom>
            <a:avLst/>
            <a:gdLst>
              <a:gd name="textAreaLeft" fmla="*/ 464760 w 2232000"/>
              <a:gd name="textAreaRight" fmla="*/ 1767240 w 2232000"/>
              <a:gd name="textAreaTop" fmla="*/ 323640 h 1554120"/>
              <a:gd name="textAreaBottom" fmla="*/ 12304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2b2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5076720" y="4221000"/>
            <a:ext cx="1511280" cy="1656000"/>
          </a:xfrm>
          <a:prstGeom prst="diamond">
            <a:avLst/>
          </a:prstGeom>
          <a:solidFill>
            <a:srgbClr val="fef876"/>
          </a:solidFill>
          <a:ln w="9360">
            <a:solidFill>
              <a:srgbClr val="efe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6804000" y="5280120"/>
            <a:ext cx="1871640" cy="1317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7812000" y="4076640"/>
            <a:ext cx="1008000" cy="9367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2771640" y="5445000"/>
            <a:ext cx="2521080" cy="1079640"/>
          </a:xfrm>
          <a:prstGeom prst="parallelogram">
            <a:avLst>
              <a:gd name="adj" fmla="val 58378"/>
            </a:avLst>
          </a:prstGeom>
          <a:solidFill>
            <a:srgbClr val="ff9900"/>
          </a:solidFill>
          <a:ln w="9360">
            <a:solidFill>
              <a:srgbClr val="dc8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ole tekstowe 6"/>
          <p:cNvSpPr/>
          <p:nvPr/>
        </p:nvSpPr>
        <p:spPr>
          <a:xfrm>
            <a:off x="5796000" y="1557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 miara kąta rozwart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179280" y="1773360"/>
            <a:ext cx="2737080" cy="504720"/>
          </a:xfrm>
          <a:prstGeom prst="wedgeRectCallout">
            <a:avLst>
              <a:gd name="adj1" fmla="val -3074"/>
              <a:gd name="adj2" fmla="val -1251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Ustalamy niewiadom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0"/>
          <p:cNvSpPr/>
          <p:nvPr/>
        </p:nvSpPr>
        <p:spPr>
          <a:xfrm>
            <a:off x="826920" y="2565360"/>
            <a:ext cx="3961080" cy="649440"/>
          </a:xfrm>
          <a:prstGeom prst="wedgeRectCallout">
            <a:avLst>
              <a:gd name="adj1" fmla="val 47152"/>
              <a:gd name="adj2" fmla="val -104277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kąt ostry jest cztery razy mniejszy od kąta rozwartego, co zapisuje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4"/>
          <p:cNvSpPr/>
          <p:nvPr/>
        </p:nvSpPr>
        <p:spPr>
          <a:xfrm>
            <a:off x="611280" y="3500280"/>
            <a:ext cx="3816360" cy="1008360"/>
          </a:xfrm>
          <a:prstGeom prst="wedgeRectCallout">
            <a:avLst>
              <a:gd name="adj1" fmla="val 65430"/>
              <a:gd name="adj2" fmla="val -37083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rzy rozwiązywaniu zadań czasami warto wykonać rysunek pomocniczy i zaznaczyć na nim informacje z zad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7"/>
          <p:cNvSpPr/>
          <p:nvPr/>
        </p:nvSpPr>
        <p:spPr>
          <a:xfrm>
            <a:off x="539640" y="4869000"/>
            <a:ext cx="4464000" cy="1081080"/>
          </a:xfrm>
          <a:prstGeom prst="wedgeRectCallout">
            <a:avLst>
              <a:gd name="adj1" fmla="val 56328"/>
              <a:gd name="adj2" fmla="val -27972"/>
            </a:avLst>
          </a:prstGeom>
          <a:solidFill>
            <a:srgbClr val="438086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korzystamy z informacji, że suma kątów w równoległoboku równa się 360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  <a:ea typeface="Arial"/>
              </a:rPr>
              <a:t>˚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  lub, co jest wygodniejsze, że suma kątów leżących przy jednym ramieniu równa się 180 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˚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. Zapisujemy równa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65"/>
              <p:cNvSpPr txBox="1"/>
              <p:nvPr/>
            </p:nvSpPr>
            <p:spPr>
              <a:xfrm>
                <a:off x="5076720" y="1916280"/>
                <a:ext cx="919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pole tekstowe 6"/>
          <p:cNvSpPr/>
          <p:nvPr/>
        </p:nvSpPr>
        <p:spPr>
          <a:xfrm>
            <a:off x="5688000" y="20955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 miara kąta ostr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7"/>
          <p:cNvSpPr/>
          <p:nvPr/>
        </p:nvSpPr>
        <p:spPr>
          <a:xfrm>
            <a:off x="5651640" y="2781360"/>
            <a:ext cx="2808000" cy="1008000"/>
          </a:xfrm>
          <a:prstGeom prst="parallelogram">
            <a:avLst>
              <a:gd name="adj" fmla="val 69643"/>
            </a:avLst>
          </a:prstGeom>
          <a:solidFill>
            <a:srgbClr val="fef876"/>
          </a:solidFill>
          <a:ln w="9360">
            <a:solidFill>
              <a:srgbClr val="c2a8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68"/>
          <p:cNvSpPr/>
          <p:nvPr/>
        </p:nvSpPr>
        <p:spPr>
          <a:xfrm>
            <a:off x="5940360" y="3357720"/>
            <a:ext cx="289080" cy="447480"/>
          </a:xfrm>
          <a:custGeom>
            <a:avLst/>
            <a:gdLst/>
            <a:ahLst/>
            <a:rect l="l" t="t" r="r" b="b"/>
            <a:pathLst>
              <a:path fill="none" w="21600" h="269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95"/>
                  <a:pt x="21376" y="25183"/>
                  <a:pt x="20933" y="26923"/>
                </a:cubicBezTo>
              </a:path>
              <a:path stroke="0" w="21600" h="269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95"/>
                  <a:pt x="21376" y="25183"/>
                  <a:pt x="20933" y="2692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69"/>
          <p:cNvSpPr/>
          <p:nvPr/>
        </p:nvSpPr>
        <p:spPr>
          <a:xfrm flipV="1">
            <a:off x="6116760" y="2781360"/>
            <a:ext cx="761760" cy="288720"/>
          </a:xfrm>
          <a:custGeom>
            <a:avLst/>
            <a:gdLst/>
            <a:ahLst/>
            <a:rect l="l" t="t" r="r" b="b"/>
            <a:pathLst>
              <a:path fill="none" w="25345" h="21600">
                <a:moveTo>
                  <a:pt x="0" y="327"/>
                </a:moveTo>
                <a:cubicBezTo>
                  <a:pt x="1236" y="109"/>
                  <a:pt x="2489" y="-1"/>
                  <a:pt x="3745" y="0"/>
                </a:cubicBezTo>
                <a:cubicBezTo>
                  <a:pt x="15674" y="0"/>
                  <a:pt x="25345" y="9670"/>
                  <a:pt x="25345" y="21600"/>
                </a:cubicBezTo>
              </a:path>
              <a:path stroke="0" w="25345" h="21600">
                <a:moveTo>
                  <a:pt x="0" y="327"/>
                </a:moveTo>
                <a:cubicBezTo>
                  <a:pt x="1236" y="109"/>
                  <a:pt x="2489" y="-1"/>
                  <a:pt x="3745" y="0"/>
                </a:cubicBezTo>
                <a:cubicBezTo>
                  <a:pt x="15674" y="0"/>
                  <a:pt x="25345" y="9670"/>
                  <a:pt x="25345" y="21600"/>
                </a:cubicBezTo>
                <a:lnTo>
                  <a:pt x="3745" y="21600"/>
                </a:lnTo>
                <a:lnTo>
                  <a:pt x="0" y="3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70"/>
              <p:cNvSpPr txBox="1"/>
              <p:nvPr/>
            </p:nvSpPr>
            <p:spPr>
              <a:xfrm>
                <a:off x="5796000" y="3357720"/>
                <a:ext cx="420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1"/>
              <p:cNvSpPr txBox="1"/>
              <p:nvPr/>
            </p:nvSpPr>
            <p:spPr>
              <a:xfrm>
                <a:off x="6300720" y="2781360"/>
                <a:ext cx="360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2"/>
              <p:cNvSpPr txBox="1"/>
              <p:nvPr/>
            </p:nvSpPr>
            <p:spPr>
              <a:xfrm>
                <a:off x="5508720" y="162864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3"/>
              <p:cNvSpPr txBox="1"/>
              <p:nvPr/>
            </p:nvSpPr>
            <p:spPr>
              <a:xfrm>
                <a:off x="5435640" y="4581360"/>
                <a:ext cx="31687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7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79280" y="1773360"/>
            <a:ext cx="3961080" cy="647640"/>
          </a:xfrm>
          <a:prstGeom prst="wedgeRectCallout">
            <a:avLst>
              <a:gd name="adj1" fmla="val -44027"/>
              <a:gd name="adj2" fmla="val -1218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walniamy się od ułamka, mnożymy obie strony równania przez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725480" y="2781360"/>
            <a:ext cx="2737080" cy="431640"/>
          </a:xfrm>
          <a:prstGeom prst="wedgeRectCallout">
            <a:avLst>
              <a:gd name="adj1" fmla="val 61717"/>
              <a:gd name="adj2" fmla="val -1911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 otrzym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1187280" y="3716280"/>
            <a:ext cx="3240360" cy="720720"/>
          </a:xfrm>
          <a:prstGeom prst="wedgeRectCallout">
            <a:avLst>
              <a:gd name="adj1" fmla="val 60337"/>
              <a:gd name="adj2" fmla="val -5726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rozwiązujemy równ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874800" y="5084640"/>
            <a:ext cx="3744720" cy="793800"/>
          </a:xfrm>
          <a:prstGeom prst="wedgeRectCallout">
            <a:avLst>
              <a:gd name="adj1" fmla="val 62842"/>
              <a:gd name="adj2" fmla="val -2925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bliczyliśmy miarę kąta rozwart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8"/>
          <p:cNvGrpSpPr/>
          <p:nvPr/>
        </p:nvGrpSpPr>
        <p:grpSpPr>
          <a:xfrm>
            <a:off x="5651640" y="692280"/>
            <a:ext cx="2808000" cy="1023840"/>
            <a:chOff x="5651640" y="692280"/>
            <a:chExt cx="2808000" cy="1023840"/>
          </a:xfrm>
        </p:grpSpPr>
        <p:sp>
          <p:nvSpPr>
            <p:cNvPr id="245" name="AutoShape 9"/>
            <p:cNvSpPr/>
            <p:nvPr/>
          </p:nvSpPr>
          <p:spPr>
            <a:xfrm>
              <a:off x="5651640" y="692280"/>
              <a:ext cx="2808000" cy="1008000"/>
            </a:xfrm>
            <a:prstGeom prst="parallelogram">
              <a:avLst>
                <a:gd name="adj" fmla="val 69643"/>
              </a:avLst>
            </a:prstGeom>
            <a:solidFill>
              <a:srgbClr val="fef876"/>
            </a:solidFill>
            <a:ln w="936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rc 10"/>
            <p:cNvSpPr/>
            <p:nvPr/>
          </p:nvSpPr>
          <p:spPr>
            <a:xfrm>
              <a:off x="5940360" y="1268640"/>
              <a:ext cx="289080" cy="447480"/>
            </a:xfrm>
            <a:custGeom>
              <a:avLst/>
              <a:gdLst/>
              <a:ahLst/>
              <a:rect l="l" t="t" r="r" b="b"/>
              <a:pathLst>
                <a:path fill="none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</a:path>
                <a:path stroke="0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11"/>
            <p:cNvSpPr/>
            <p:nvPr/>
          </p:nvSpPr>
          <p:spPr>
            <a:xfrm flipV="1">
              <a:off x="6116760" y="691920"/>
              <a:ext cx="761760" cy="288720"/>
            </a:xfrm>
            <a:custGeom>
              <a:avLst/>
              <a:gdLst/>
              <a:ahLst/>
              <a:rect l="l" t="t" r="r" b="b"/>
              <a:pathLst>
                <a:path fill="none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</a:path>
                <a:path stroke="0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  <a:lnTo>
                    <a:pt x="3745" y="21600"/>
                  </a:lnTo>
                  <a:lnTo>
                    <a:pt x="0" y="3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12"/>
                <p:cNvSpPr txBox="1"/>
                <p:nvPr/>
              </p:nvSpPr>
              <p:spPr>
                <a:xfrm>
                  <a:off x="5867280" y="1268640"/>
                  <a:ext cx="3841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Object 13"/>
                <p:cNvSpPr txBox="1"/>
                <p:nvPr/>
              </p:nvSpPr>
              <p:spPr>
                <a:xfrm>
                  <a:off x="6300720" y="692280"/>
                  <a:ext cx="3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5219640" y="1998720"/>
                <a:ext cx="3743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/>
                    </m:f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5"/>
              <p:cNvSpPr txBox="1"/>
              <p:nvPr/>
            </p:nvSpPr>
            <p:spPr>
              <a:xfrm>
                <a:off x="5219640" y="3068640"/>
                <a:ext cx="3247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5292720" y="4365720"/>
                <a:ext cx="27608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°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5292720" y="3716280"/>
                <a:ext cx="250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8"/>
              <p:cNvSpPr txBox="1"/>
              <p:nvPr/>
            </p:nvSpPr>
            <p:spPr>
              <a:xfrm>
                <a:off x="6012000" y="5157720"/>
                <a:ext cx="2270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AutoShape 19"/>
          <p:cNvSpPr/>
          <p:nvPr/>
        </p:nvSpPr>
        <p:spPr>
          <a:xfrm>
            <a:off x="5219640" y="6165720"/>
            <a:ext cx="3024360" cy="505080"/>
          </a:xfrm>
          <a:prstGeom prst="wedgeRectCallout">
            <a:avLst>
              <a:gd name="adj1" fmla="val -1337"/>
              <a:gd name="adj2" fmla="val -111319"/>
            </a:avLst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miara kąta rozwart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79280" y="1773360"/>
            <a:ext cx="3961080" cy="863640"/>
          </a:xfrm>
          <a:prstGeom prst="wedgeRectCallout">
            <a:avLst>
              <a:gd name="adj1" fmla="val 32444"/>
              <a:gd name="adj2" fmla="val -873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liczamy miarę kąta ostrego,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ąt ostry jest 4 razy mniejszy od kąta rozwart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1674720" y="3139920"/>
            <a:ext cx="2737080" cy="432000"/>
          </a:xfrm>
          <a:prstGeom prst="wedgeRectCallout">
            <a:avLst>
              <a:gd name="adj1" fmla="val 64504"/>
              <a:gd name="adj2" fmla="val -127203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i otrzym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900000" y="3933720"/>
            <a:ext cx="3529080" cy="1079640"/>
          </a:xfrm>
          <a:prstGeom prst="wedgeRectCallout">
            <a:avLst>
              <a:gd name="adj1" fmla="val 68893"/>
              <a:gd name="adj2" fmla="val 3191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sprawdzamy czy  obliczone kąty  spełniają warunki zadania,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kąt rozwarty jest 4 razy większy od kąta ost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55640" y="5589720"/>
            <a:ext cx="3816360" cy="576000"/>
          </a:xfrm>
          <a:prstGeom prst="wedgeRectCallout">
            <a:avLst>
              <a:gd name="adj1" fmla="val 64226"/>
              <a:gd name="adj2" fmla="val 34847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tych kątów powinna być równa 180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sprawdzam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8"/>
          <p:cNvGrpSpPr/>
          <p:nvPr/>
        </p:nvGrpSpPr>
        <p:grpSpPr>
          <a:xfrm>
            <a:off x="5651640" y="692280"/>
            <a:ext cx="2808000" cy="1023840"/>
            <a:chOff x="5651640" y="692280"/>
            <a:chExt cx="2808000" cy="1023840"/>
          </a:xfrm>
        </p:grpSpPr>
        <p:sp>
          <p:nvSpPr>
            <p:cNvPr id="263" name="AutoShape 11"/>
            <p:cNvSpPr/>
            <p:nvPr/>
          </p:nvSpPr>
          <p:spPr>
            <a:xfrm>
              <a:off x="5651640" y="692280"/>
              <a:ext cx="2808000" cy="1008000"/>
            </a:xfrm>
            <a:prstGeom prst="parallelogram">
              <a:avLst>
                <a:gd name="adj" fmla="val 69643"/>
              </a:avLst>
            </a:prstGeom>
            <a:solidFill>
              <a:srgbClr val="fef876"/>
            </a:solidFill>
            <a:ln w="936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12"/>
            <p:cNvSpPr/>
            <p:nvPr/>
          </p:nvSpPr>
          <p:spPr>
            <a:xfrm>
              <a:off x="5940360" y="1268640"/>
              <a:ext cx="289080" cy="447480"/>
            </a:xfrm>
            <a:custGeom>
              <a:avLst/>
              <a:gdLst/>
              <a:ahLst/>
              <a:rect l="l" t="t" r="r" b="b"/>
              <a:pathLst>
                <a:path fill="none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</a:path>
                <a:path stroke="0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3"/>
            <p:cNvSpPr/>
            <p:nvPr/>
          </p:nvSpPr>
          <p:spPr>
            <a:xfrm flipV="1">
              <a:off x="6116760" y="691920"/>
              <a:ext cx="761760" cy="288720"/>
            </a:xfrm>
            <a:custGeom>
              <a:avLst/>
              <a:gdLst/>
              <a:ahLst/>
              <a:rect l="l" t="t" r="r" b="b"/>
              <a:pathLst>
                <a:path fill="none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</a:path>
                <a:path stroke="0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  <a:lnTo>
                    <a:pt x="3745" y="21600"/>
                  </a:lnTo>
                  <a:lnTo>
                    <a:pt x="0" y="3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4"/>
                <p:cNvSpPr txBox="1"/>
                <p:nvPr/>
              </p:nvSpPr>
              <p:spPr>
                <a:xfrm>
                  <a:off x="5867280" y="1268640"/>
                  <a:ext cx="3841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15"/>
                <p:cNvSpPr txBox="1"/>
                <p:nvPr/>
              </p:nvSpPr>
              <p:spPr>
                <a:xfrm>
                  <a:off x="6300720" y="692280"/>
                  <a:ext cx="3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8" name="Object 22"/>
              <p:cNvSpPr txBox="1"/>
              <p:nvPr/>
            </p:nvSpPr>
            <p:spPr>
              <a:xfrm>
                <a:off x="5148360" y="2708280"/>
                <a:ext cx="352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AutoShape 23"/>
          <p:cNvSpPr/>
          <p:nvPr/>
        </p:nvSpPr>
        <p:spPr>
          <a:xfrm>
            <a:off x="5796000" y="3573360"/>
            <a:ext cx="3024000" cy="505080"/>
          </a:xfrm>
          <a:prstGeom prst="wedgeRectCallout">
            <a:avLst>
              <a:gd name="adj1" fmla="val 25435"/>
              <a:gd name="adj2" fmla="val -116666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miara kąta ost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4"/>
              <p:cNvSpPr txBox="1"/>
              <p:nvPr/>
            </p:nvSpPr>
            <p:spPr>
              <a:xfrm>
                <a:off x="5796000" y="1989000"/>
                <a:ext cx="2270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5"/>
              <p:cNvSpPr txBox="1"/>
              <p:nvPr/>
            </p:nvSpPr>
            <p:spPr>
              <a:xfrm>
                <a:off x="5364000" y="4653000"/>
                <a:ext cx="340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°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6"/>
              <p:cNvSpPr txBox="1"/>
              <p:nvPr/>
            </p:nvSpPr>
            <p:spPr>
              <a:xfrm>
                <a:off x="5219640" y="5877000"/>
                <a:ext cx="3780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536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Trebuchet MS"/>
              </a:rPr>
              <a:t>Jakie miary mają kąty w równoległoboku, jeżeli kąt ostry jest 4 razy mniejszy od kąta rozwartego?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250920" y="2565360"/>
            <a:ext cx="3960720" cy="863640"/>
          </a:xfrm>
          <a:prstGeom prst="wedgeRectCallout">
            <a:avLst>
              <a:gd name="adj1" fmla="val 24629"/>
              <a:gd name="adj2" fmla="val -105148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po sprawdzeniu zapisujemy odpowied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5796000" y="2205000"/>
            <a:ext cx="2808000" cy="1023840"/>
            <a:chOff x="5796000" y="2205000"/>
            <a:chExt cx="2808000" cy="1023840"/>
          </a:xfrm>
        </p:grpSpPr>
        <p:sp>
          <p:nvSpPr>
            <p:cNvPr id="277" name="AutoShape 9"/>
            <p:cNvSpPr/>
            <p:nvPr/>
          </p:nvSpPr>
          <p:spPr>
            <a:xfrm>
              <a:off x="5796000" y="2205000"/>
              <a:ext cx="2808000" cy="1008000"/>
            </a:xfrm>
            <a:prstGeom prst="parallelogram">
              <a:avLst>
                <a:gd name="adj" fmla="val 69643"/>
              </a:avLst>
            </a:prstGeom>
            <a:solidFill>
              <a:srgbClr val="fef876"/>
            </a:solidFill>
            <a:ln w="936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rc 10"/>
            <p:cNvSpPr/>
            <p:nvPr/>
          </p:nvSpPr>
          <p:spPr>
            <a:xfrm>
              <a:off x="6084720" y="2781360"/>
              <a:ext cx="289080" cy="447480"/>
            </a:xfrm>
            <a:custGeom>
              <a:avLst/>
              <a:gdLst/>
              <a:ahLst/>
              <a:rect l="l" t="t" r="r" b="b"/>
              <a:pathLst>
                <a:path fill="none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</a:path>
                <a:path stroke="0" w="21600" h="2692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395"/>
                    <a:pt x="21376" y="25183"/>
                    <a:pt x="20933" y="2692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rc 11"/>
            <p:cNvSpPr/>
            <p:nvPr/>
          </p:nvSpPr>
          <p:spPr>
            <a:xfrm flipV="1">
              <a:off x="6261120" y="2205000"/>
              <a:ext cx="761760" cy="288720"/>
            </a:xfrm>
            <a:custGeom>
              <a:avLst/>
              <a:gdLst/>
              <a:ahLst/>
              <a:rect l="l" t="t" r="r" b="b"/>
              <a:pathLst>
                <a:path fill="none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</a:path>
                <a:path stroke="0" w="25345" h="21600">
                  <a:moveTo>
                    <a:pt x="0" y="327"/>
                  </a:moveTo>
                  <a:cubicBezTo>
                    <a:pt x="1236" y="109"/>
                    <a:pt x="2489" y="-1"/>
                    <a:pt x="3745" y="0"/>
                  </a:cubicBezTo>
                  <a:cubicBezTo>
                    <a:pt x="15674" y="0"/>
                    <a:pt x="25345" y="9670"/>
                    <a:pt x="25345" y="21600"/>
                  </a:cubicBezTo>
                  <a:lnTo>
                    <a:pt x="3745" y="21600"/>
                  </a:lnTo>
                  <a:lnTo>
                    <a:pt x="0" y="3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Object 12"/>
                <p:cNvSpPr txBox="1"/>
                <p:nvPr/>
              </p:nvSpPr>
              <p:spPr>
                <a:xfrm>
                  <a:off x="6011640" y="2781360"/>
                  <a:ext cx="3841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13"/>
                <p:cNvSpPr txBox="1"/>
                <p:nvPr/>
              </p:nvSpPr>
              <p:spPr>
                <a:xfrm>
                  <a:off x="6445080" y="2205000"/>
                  <a:ext cx="3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AutoShape 15"/>
          <p:cNvSpPr/>
          <p:nvPr/>
        </p:nvSpPr>
        <p:spPr>
          <a:xfrm>
            <a:off x="1835280" y="3860640"/>
            <a:ext cx="5832360" cy="863640"/>
          </a:xfrm>
          <a:prstGeom prst="wedgeRectCallout">
            <a:avLst>
              <a:gd name="adj1" fmla="val 6750"/>
              <a:gd name="adj2" fmla="val -24634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Kąty równoległoboku mają miary 144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 i  36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4:59:51Z</dcterms:modified>
  <cp:revision>85</cp:revision>
  <dc:subject/>
  <dc:title>Prezentacja programu PowerPoint</dc:title>
</cp:coreProperties>
</file>